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1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3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D4E4-F3EC-4E69-A7CB-F5F3FD530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67064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9DB3-7C2B-4655-82F2-E3D387093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198108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67064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467064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68B2-247E-4846-BD04-A97C084F6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198108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198108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67064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467064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467064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44F1-F4BD-4E10-9A55-A5065DC7D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108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7840" y="198108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60948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87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98108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67064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108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22BC-19BC-4F2C-9D36-C098481F0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198108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7840" y="467064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198108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67064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67064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7840" y="198108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67064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7840" y="467064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0680" y="198108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080" y="198108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67064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0680" y="467064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080" y="467064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04920" y="198108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7840" y="198108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E62A-CF71-4850-A319-D48C8C5E5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60948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87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7840" y="198108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04920" y="467064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7840" y="198108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7840" y="467064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7840" y="198108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04920" y="467064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04920" y="467064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7840" y="198108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04920" y="467064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7840" y="467064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190680" y="198108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76080" y="198108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04920" y="467064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190680" y="467064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76080" y="467064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198108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58E7-2D43-494F-A6B5-4A056F5EA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F641-74A2-4AE2-B99D-57A347C06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60948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87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298A-BCEE-41D3-87E9-CEBED0736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98108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67064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DCE8-FFF1-4D64-86E9-71B273D4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198108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467064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A8C7-19DF-4C19-9D7C-D0E2D59E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198108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67064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048E-E64C-4230-88E4-78ACE6DB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8A6B50-C763-481C-8556-B9947224FB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108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1687"/>
              </a:spcBef>
              <a:spcAft>
                <a:spcPts val="751"/>
              </a:spcAft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1687"/>
              </a:spcBef>
              <a:spcAft>
                <a:spcPts val="751"/>
              </a:spcAft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228600" y="6535440"/>
            <a:ext cx="424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Line 8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0"/>
          <p:cNvSpPr/>
          <p:nvPr/>
        </p:nvSpPr>
        <p:spPr>
          <a:xfrm>
            <a:off x="0" y="0"/>
            <a:ext cx="9144000" cy="190512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15"/>
          <p:cNvSpPr/>
          <p:nvPr/>
        </p:nvSpPr>
        <p:spPr>
          <a:xfrm>
            <a:off x="1333440" y="76320"/>
            <a:ext cx="64771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eorgia"/>
                <a:ea typeface="ＭＳ Ｐゴシック"/>
              </a:rPr>
              <a:t>BIOLOGY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33"/>
                </a:solidFill>
                <a:latin typeface="Georgia"/>
                <a:ea typeface="ＭＳ Ｐゴシック"/>
              </a:rPr>
              <a:t>CONCEPTS &amp; CONNE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ＭＳ Ｐゴシック"/>
              </a:rPr>
              <a:t>Fourth Ed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16"/>
          <p:cNvSpPr/>
          <p:nvPr/>
        </p:nvSpPr>
        <p:spPr>
          <a:xfrm>
            <a:off x="2472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17"/>
          <p:cNvSpPr/>
          <p:nvPr/>
        </p:nvSpPr>
        <p:spPr>
          <a:xfrm>
            <a:off x="228600" y="1981080"/>
            <a:ext cx="86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33"/>
                </a:solidFill>
                <a:latin typeface="Georgia"/>
                <a:ea typeface="MS PGothic"/>
              </a:rPr>
              <a:t>Neil A. Campbell  </a:t>
            </a:r>
            <a:r>
              <a:rPr b="1" lang="en-US" sz="1600" spc="-1" strike="noStrike">
                <a:solidFill>
                  <a:srgbClr val="990000"/>
                </a:solidFill>
                <a:latin typeface="Georgia"/>
                <a:ea typeface="MS PGothic"/>
              </a:rPr>
              <a:t>•</a:t>
            </a:r>
            <a:r>
              <a:rPr b="1" lang="en-US" sz="1600" spc="-1" strike="noStrike">
                <a:solidFill>
                  <a:srgbClr val="cc6633"/>
                </a:solidFill>
                <a:latin typeface="Georgia"/>
                <a:ea typeface="MS PGothic"/>
              </a:rPr>
              <a:t>  Jane B. Reece  </a:t>
            </a:r>
            <a:r>
              <a:rPr b="1" lang="en-US" sz="1600" spc="-1" strike="noStrike">
                <a:solidFill>
                  <a:srgbClr val="990000"/>
                </a:solidFill>
                <a:latin typeface="Georgia"/>
                <a:ea typeface="MS PGothic"/>
              </a:rPr>
              <a:t>• </a:t>
            </a:r>
            <a:r>
              <a:rPr b="1" lang="en-US" sz="1600" spc="-1" strike="noStrike">
                <a:solidFill>
                  <a:srgbClr val="cc6633"/>
                </a:solidFill>
                <a:latin typeface="Georgia"/>
                <a:ea typeface="MS PGothic"/>
              </a:rPr>
              <a:t> Lawrence G. Mitchell  </a:t>
            </a:r>
            <a:r>
              <a:rPr b="1" lang="en-US" sz="1600" spc="-1" strike="noStrike">
                <a:solidFill>
                  <a:srgbClr val="990000"/>
                </a:solidFill>
                <a:latin typeface="Georgia"/>
                <a:ea typeface="MS PGothic"/>
              </a:rPr>
              <a:t>• </a:t>
            </a:r>
            <a:r>
              <a:rPr b="1" lang="en-US" sz="1600" spc="-1" strike="noStrike">
                <a:solidFill>
                  <a:srgbClr val="cc6633"/>
                </a:solidFill>
                <a:latin typeface="Georgia"/>
                <a:ea typeface="MS PGothic"/>
              </a:rPr>
              <a:t> Martha R. Taylo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18"/>
          <p:cNvSpPr/>
          <p:nvPr/>
        </p:nvSpPr>
        <p:spPr>
          <a:xfrm>
            <a:off x="1802880" y="6095880"/>
            <a:ext cx="559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Georgia"/>
                <a:ea typeface="MS PGothic"/>
              </a:rPr>
              <a:t>From PowerPoint</a:t>
            </a:r>
            <a:r>
              <a:rPr b="0" lang="en-US" sz="1400" spc="-1" strike="noStrike" baseline="30000">
                <a:solidFill>
                  <a:srgbClr val="990000"/>
                </a:solidFill>
                <a:latin typeface="Georgia"/>
                <a:ea typeface="MS PGothic"/>
              </a:rPr>
              <a:t>®</a:t>
            </a:r>
            <a:r>
              <a:rPr b="0" lang="en-US" sz="1400" spc="-1" strike="noStrike">
                <a:solidFill>
                  <a:srgbClr val="990000"/>
                </a:solidFill>
                <a:latin typeface="Georgia"/>
                <a:ea typeface="MS PGothic"/>
              </a:rPr>
              <a:t> Lectures for </a:t>
            </a:r>
            <a:r>
              <a:rPr b="0" i="1" lang="en-US" sz="1400" spc="-1" strike="noStrike">
                <a:solidFill>
                  <a:srgbClr val="990000"/>
                </a:solidFill>
                <a:latin typeface="Georgia"/>
                <a:ea typeface="MS PGothic"/>
              </a:rPr>
              <a:t>Biology: Concepts &amp; Connect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04920" y="198108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1687"/>
              </a:spcBef>
              <a:spcAft>
                <a:spcPts val="751"/>
              </a:spcAft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1687"/>
              </a:spcBef>
              <a:spcAft>
                <a:spcPts val="751"/>
              </a:spcAft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88640" y="2130120"/>
            <a:ext cx="8815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P Test Evolution/Classifcation 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51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Times New Roman"/>
              </a:rPr>
              <a:t>What causes evolution?</a:t>
            </a: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981080"/>
            <a:ext cx="8534160" cy="36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Genetic drif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Bottleneck Effec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ounder Effec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Gene Flow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Mutation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266760" y="1295280"/>
            <a:ext cx="369576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spcAft>
                <a:spcPts val="60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Genetic drift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s a change in a gene pool due to chanc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1349"/>
              </a:spcBef>
              <a:spcAft>
                <a:spcPts val="601"/>
              </a:spcAft>
              <a:buClr>
                <a:srgbClr val="99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Genetic drift can cause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bottleneck effect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: an event that drastically reduces population size (fire, flood, earthquake)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51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825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enetic Drift</a:t>
            </a: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7620120" y="6126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igure 13.11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6" descr="_x001e_13-11A-BottleneckEffect-NL.gif                                 0000002A_x001a_BiologyConcepts4eCIPL_8-15     B9599A75:"/>
          <p:cNvPicPr/>
          <p:nvPr/>
        </p:nvPicPr>
        <p:blipFill>
          <a:blip r:embed="rId1"/>
          <a:srcRect l="0" t="0" r="0" b="4661"/>
          <a:stretch/>
        </p:blipFill>
        <p:spPr>
          <a:xfrm>
            <a:off x="4419720" y="1828800"/>
            <a:ext cx="4343400" cy="34448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7"/>
          <p:cNvSpPr/>
          <p:nvPr/>
        </p:nvSpPr>
        <p:spPr>
          <a:xfrm>
            <a:off x="4423320" y="5257800"/>
            <a:ext cx="959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Original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6097320" y="5257800"/>
            <a:ext cx="118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ottlenecking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ev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7876080" y="5257800"/>
            <a:ext cx="959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urviving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51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Times New Roman"/>
              </a:rPr>
              <a:t>Genetic drift…</a:t>
            </a: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980720"/>
            <a:ext cx="8534160" cy="27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If a population is very diverse and something bad happens, at least a few individuals will survive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ese individuals will then reproduce and the species will evolve, or change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534160" cy="29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576"/>
              </a:spcBef>
              <a:spcAft>
                <a:spcPts val="700"/>
              </a:spcAft>
              <a:buClr>
                <a:srgbClr val="99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founder effec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is when some individuals leave a population and start living somewhere new.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1576"/>
              </a:spcBef>
              <a:spcAft>
                <a:spcPts val="700"/>
              </a:spcAft>
              <a:buClr>
                <a:srgbClr val="99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nly a few people or animals leave, and the new population will be closely related to due lack of genetic diversity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7673760" y="5638680"/>
            <a:ext cx="123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igure 13.11B,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5" descr="_x0018_13-11B-ElephantSeals.jpg                                       0000002A_x001a_BiologyConcepts4eCIPL_8-15     B9599A75:"/>
          <p:cNvPicPr/>
          <p:nvPr/>
        </p:nvPicPr>
        <p:blipFill>
          <a:blip r:embed="rId1"/>
          <a:stretch/>
        </p:blipFill>
        <p:spPr>
          <a:xfrm>
            <a:off x="304920" y="3581280"/>
            <a:ext cx="4114800" cy="27669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_x0019_13-11C-TristanDaCunha.jpg                                      0000002A_x001a_BiologyConcepts4eCIPL_8-15     B9599A75:"/>
          <p:cNvPicPr/>
          <p:nvPr/>
        </p:nvPicPr>
        <p:blipFill>
          <a:blip r:embed="rId2"/>
          <a:stretch/>
        </p:blipFill>
        <p:spPr>
          <a:xfrm>
            <a:off x="4572000" y="3581280"/>
            <a:ext cx="4044960" cy="27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04920" y="583920"/>
            <a:ext cx="8610480" cy="19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Georgia"/>
              </a:rPr>
              <a:t>Gene flow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 can change a gene pool due to the movement of genes into or out of a population (new organisms move in or leave)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304920" y="2514600"/>
            <a:ext cx="8610480" cy="22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Georgia"/>
              </a:rPr>
              <a:t>Mutation 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hanges alleles, these are random changes in DNA that can create new proteins or new characteristic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04920" y="1218960"/>
            <a:ext cx="8153280" cy="527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howing that evolution has to happen by showing that characteristics in nature are always changing...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Hardy-Weinberg equilibrium states that the shuffling of genes during sexual reproduction does not alter the proportions of different alleles in a gene poo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Populations are always evolving and not usually in equilibrium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266760" y="75960"/>
            <a:ext cx="8610480" cy="51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91584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Times New Roman"/>
              </a:rPr>
              <a:t>13.8  Hardy-Weinberg Equilibrium</a:t>
            </a: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7620120" y="6126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igure 13.8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8648640" cy="483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e population is very large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e population is isolated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Mutations do not alter the gene poo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Mating is random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All individuals are equal in reproductive success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***This does not happen in nature!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266760" y="763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825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Times New Roman"/>
              </a:rPr>
              <a:t>13.10  Five conditions are required for Hardy-Weinberg equilibrium</a:t>
            </a: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51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Times New Roman"/>
              </a:rPr>
              <a:t>The Equation</a:t>
            </a: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980720"/>
            <a:ext cx="85341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eorgia"/>
              </a:rPr>
              <a:t>p</a:t>
            </a:r>
            <a:r>
              <a:rPr b="1" lang="en-US" sz="30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Georgia"/>
              </a:rPr>
              <a:t> + 2pq + q</a:t>
            </a:r>
            <a:r>
              <a:rPr b="1" lang="en-US" sz="30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Georgia"/>
              </a:rPr>
              <a:t> = 1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eorgia"/>
              </a:rPr>
              <a:t>p + q = 1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349"/>
              </a:spcBef>
              <a:spcAft>
                <a:spcPts val="60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 = frequency of the dominant allele in the population (A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q = frequency of the recessive allele in the population (a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= percentage of homozygous dominant individuals (AA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= percentage of homozygous recessive individuals (aa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2pq = percentage of heterozygous individuals (Aa)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266760" y="1600200"/>
            <a:ext cx="8610480" cy="47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Georgia"/>
              </a:rPr>
              <a:t>Macroevolution 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onsists of the major changes in the history of life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1576"/>
              </a:spcBef>
              <a:spcAft>
                <a:spcPts val="700"/>
              </a:spcAft>
              <a:buClr>
                <a:srgbClr val="99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Earth is 4.6 billion years ol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1576"/>
              </a:spcBef>
              <a:spcAft>
                <a:spcPts val="700"/>
              </a:spcAft>
              <a:buClr>
                <a:srgbClr val="99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ife appeared 3.8 billion years ago: as single celled prokaryotic bacteri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1576"/>
              </a:spcBef>
              <a:spcAft>
                <a:spcPts val="700"/>
              </a:spcAft>
              <a:buClr>
                <a:srgbClr val="99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round 500 million years ago, simple marine animals and plants had evolve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8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Times New Roman"/>
              </a:rPr>
              <a:t>15.1  The fossil record chronicles macroevolution</a:t>
            </a: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228600" y="76320"/>
            <a:ext cx="86868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7240" indent="-687240">
              <a:lnSpc>
                <a:spcPct val="9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Georgia"/>
              </a:rPr>
              <a:t>MACROEVOLU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Line 6"/>
          <p:cNvSpPr/>
          <p:nvPr/>
        </p:nvSpPr>
        <p:spPr>
          <a:xfrm>
            <a:off x="304920" y="533520"/>
            <a:ext cx="85341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266760" y="1294920"/>
            <a:ext cx="8610480" cy="314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Georgia"/>
              </a:rPr>
              <a:t>Radiometric 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(or carbon)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Georgia"/>
              </a:rPr>
              <a:t>dating 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is based on the measurement of certain radioactive isotopes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cientists can measure how much carbon is left in a fossil, and can then determine how old that fossil is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266760" y="75960"/>
            <a:ext cx="8610480" cy="51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6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Times New Roman"/>
              </a:rPr>
              <a:t>15.2  Radiometric Dating</a:t>
            </a: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51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Times New Roman"/>
              </a:rPr>
              <a:t>Evolution</a:t>
            </a: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600"/>
            <a:ext cx="8534160" cy="22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Georgia"/>
              </a:rPr>
              <a:t>Evolution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 is genetic change in a population over time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Georgia"/>
              </a:rPr>
              <a:t>Charles Darwin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 was the first scientist to propose the theory of evolution, in 1859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1371600" y="3657600"/>
            <a:ext cx="2438280" cy="2703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"/>
          <p:cNvPicPr/>
          <p:nvPr/>
        </p:nvPicPr>
        <p:blipFill>
          <a:blip r:embed="rId2"/>
          <a:stretch/>
        </p:blipFill>
        <p:spPr>
          <a:xfrm>
            <a:off x="5715000" y="3581280"/>
            <a:ext cx="17524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266760" y="1219320"/>
            <a:ext cx="861048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A structure that evolved in one context and was later adapted to another function is referred to as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Georgia"/>
              </a:rPr>
              <a:t>exaptation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1576"/>
              </a:spcBef>
              <a:spcAft>
                <a:spcPts val="700"/>
              </a:spcAft>
              <a:buClr>
                <a:srgbClr val="99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xample: Dinosaurs evolved feathers as insulation against extreme temperatures, as birds evolved from small dinosaurs, feathers changed through natural selection to give flight.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266760" y="75960"/>
            <a:ext cx="8610480" cy="51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6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Times New Roman"/>
              </a:rPr>
              <a:t>15.6 Adaptations</a:t>
            </a: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4191120" y="6126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igure 15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2286000" y="3276720"/>
            <a:ext cx="4648320" cy="33750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228600" y="1523880"/>
            <a:ext cx="8610480" cy="268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Georgia"/>
              </a:rPr>
              <a:t>Phylogeny 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is the evolutionary history of a group of organisms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Biologists construct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Georgia"/>
              </a:rPr>
              <a:t>phylogenic trees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, which are diagrams that trace evolutionary relationships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266760" y="75960"/>
            <a:ext cx="8610480" cy="51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6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Times New Roman"/>
              </a:rPr>
              <a:t>15.9  Phylogeny</a:t>
            </a: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04920" y="1066320"/>
            <a:ext cx="861048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12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Reconstructing phylogeny is part of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Georgia"/>
              </a:rPr>
              <a:t>systematics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, the study of biological diversity and classification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1312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axonomists assign a two-part name to each species (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Georgia"/>
              </a:rPr>
              <a:t>binomial nomenclature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spcAft>
                <a:spcPts val="700"/>
              </a:spcAft>
              <a:buClr>
                <a:srgbClr val="99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first name,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genu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covers a group of related species (but they can</a:t>
            </a:r>
            <a:r>
              <a:rPr b="0" lang="ja-JP" sz="2800" spc="-1" strike="noStrike">
                <a:solidFill>
                  <a:srgbClr val="000000"/>
                </a:solidFill>
                <a:latin typeface="Georgia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 breed!) Ex: 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Homo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spcAft>
                <a:spcPts val="700"/>
              </a:spcAft>
              <a:buClr>
                <a:srgbClr val="99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second name refers to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species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ithin a genus  Ex: 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sapie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spcAft>
                <a:spcPts val="700"/>
              </a:spcAft>
              <a:buClr>
                <a:srgbClr val="99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nother Example: 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Canis familiari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(italics, genus capitalized, species not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152280" y="2286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8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Times New Roman"/>
              </a:rPr>
              <a:t>15.10  Systematists classify organisms by phylogeny</a:t>
            </a: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95" name="Line 6"/>
          <p:cNvSpPr/>
          <p:nvPr/>
        </p:nvSpPr>
        <p:spPr>
          <a:xfrm>
            <a:off x="304920" y="944640"/>
            <a:ext cx="85341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534520" cy="51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Georgia"/>
              </a:rPr>
              <a:t>A review of taxonomy</a:t>
            </a: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28240" y="761760"/>
            <a:ext cx="8504280" cy="553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463"/>
              </a:spcBef>
              <a:spcAft>
                <a:spcPts val="649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axonomy is the system of classifying living organisms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39480" indent="-339480">
              <a:spcBef>
                <a:spcPts val="1463"/>
              </a:spcBef>
              <a:spcAft>
                <a:spcPts val="649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Kings = Kingdom (Anamalia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39480" indent="-339480">
              <a:spcBef>
                <a:spcPts val="1463"/>
              </a:spcBef>
              <a:spcAft>
                <a:spcPts val="649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Play = Phylum (Chordata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39480" indent="-339480">
              <a:spcBef>
                <a:spcPts val="1463"/>
              </a:spcBef>
              <a:spcAft>
                <a:spcPts val="649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hess = Class (Mammalia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39480" indent="-339480">
              <a:spcBef>
                <a:spcPts val="1463"/>
              </a:spcBef>
              <a:spcAft>
                <a:spcPts val="649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On = Order (Primates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39480" indent="-339480">
              <a:spcBef>
                <a:spcPts val="1463"/>
              </a:spcBef>
              <a:spcAft>
                <a:spcPts val="649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unny = Family (Hominidae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39480" indent="-339480">
              <a:spcBef>
                <a:spcPts val="1463"/>
              </a:spcBef>
              <a:spcAft>
                <a:spcPts val="649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Green = Genus (Homo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39480" indent="-339480">
              <a:spcBef>
                <a:spcPts val="1463"/>
              </a:spcBef>
              <a:spcAft>
                <a:spcPts val="649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quares = Species (sapiens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04920" y="304560"/>
            <a:ext cx="8610480" cy="109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A newer system recognizes two basically distinctive groups of prokaryotes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304920" y="1523880"/>
            <a:ext cx="4952880" cy="38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1576"/>
              </a:spcBef>
              <a:spcAft>
                <a:spcPts val="700"/>
              </a:spcAft>
              <a:buClr>
                <a:srgbClr val="990000"/>
              </a:buClr>
              <a:buFont typeface="Georgi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The domain Bacte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576"/>
              </a:spcBef>
              <a:spcAft>
                <a:spcPts val="700"/>
              </a:spcAft>
              <a:buClr>
                <a:srgbClr val="990000"/>
              </a:buClr>
              <a:buFont typeface="Georgi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The domain Archa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A third domain,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e Eukarya,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includes all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kingdoms of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eukaryo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7620120" y="61722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igure 15.14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7" descr="&#13;15-14B-NL.gif                                                  000052A8_x0011_CRMT-TA/IPL drive              B7D09A82:"/>
          <p:cNvPicPr/>
          <p:nvPr/>
        </p:nvPicPr>
        <p:blipFill>
          <a:blip r:embed="rId1"/>
          <a:srcRect l="0" t="0" r="0" b="10838"/>
          <a:stretch/>
        </p:blipFill>
        <p:spPr>
          <a:xfrm>
            <a:off x="3881520" y="3124080"/>
            <a:ext cx="5033880" cy="292284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8"/>
          <p:cNvSpPr/>
          <p:nvPr/>
        </p:nvSpPr>
        <p:spPr>
          <a:xfrm>
            <a:off x="4117680" y="4572000"/>
            <a:ext cx="96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5911200" y="4572000"/>
            <a:ext cx="94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RCHA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7776360" y="4572000"/>
            <a:ext cx="93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EUKARY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5936040" y="6019920"/>
            <a:ext cx="95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Earlies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organis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228600" y="990720"/>
            <a:ext cx="8610480" cy="53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76"/>
              </a:spcBef>
              <a:spcAft>
                <a:spcPts val="700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Homologous structure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are evidence that organisms have evolved from a common ancestor (human arm, whale flipper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576"/>
              </a:spcBef>
              <a:spcAft>
                <a:spcPts val="700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 contrast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analogous similaritie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are evidence that organisms from different evolutionary lineages have undergon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convergent evolution (shark and dolphin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1349"/>
              </a:spcBef>
              <a:spcAft>
                <a:spcPts val="601"/>
              </a:spcAft>
              <a:buClr>
                <a:srgbClr val="99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ir resemblances have resulted from living in similar environmen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1349"/>
              </a:spcBef>
              <a:spcAft>
                <a:spcPts val="601"/>
              </a:spcAft>
              <a:buClr>
                <a:srgbClr val="99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xample: A bat wing and a bee wing (they are NOT homologous, they are analogous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266760" y="75960"/>
            <a:ext cx="8610480" cy="51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191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Times New Roman"/>
              </a:rPr>
              <a:t>15.11  Homology vs. Analogy</a:t>
            </a: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7" descr="_x001e_15-12B-PrimateCladogram-NL.gif                                 0000002C_x001a_BiologyConcepts4eCIPL_8-15     B9599A75:"/>
          <p:cNvPicPr/>
          <p:nvPr/>
        </p:nvPicPr>
        <p:blipFill>
          <a:blip r:embed="rId1"/>
          <a:srcRect l="0" t="0" r="0" b="5558"/>
          <a:stretch/>
        </p:blipFill>
        <p:spPr>
          <a:xfrm>
            <a:off x="3809880" y="2057400"/>
            <a:ext cx="5116680" cy="277164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51920" y="1143000"/>
            <a:ext cx="8610840" cy="53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ystematists increasingly use molecular techniques to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1576"/>
              </a:spcBef>
              <a:spcAft>
                <a:spcPts val="700"/>
              </a:spcAft>
              <a:buClr>
                <a:srgbClr val="99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assif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1576"/>
              </a:spcBef>
              <a:spcAft>
                <a:spcPts val="700"/>
              </a:spcAft>
              <a:buClr>
                <a:srgbClr val="99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evelop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hylogenetic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ypothes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1576"/>
              </a:spcBef>
              <a:spcAft>
                <a:spcPts val="700"/>
              </a:spcAft>
              <a:buClr>
                <a:srgbClr val="99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otein sequences, DNA, and RNA of different organisms are compared to determine relationship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266760" y="75960"/>
            <a:ext cx="8610480" cy="51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857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Times New Roman"/>
              </a:rPr>
              <a:t>15.12  Molecular Biology</a:t>
            </a: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7620120" y="609588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igure 15.12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 Box 8"/>
          <p:cNvSpPr/>
          <p:nvPr/>
        </p:nvSpPr>
        <p:spPr>
          <a:xfrm>
            <a:off x="3887640" y="1905120"/>
            <a:ext cx="69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u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5029560" y="1905120"/>
            <a:ext cx="108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Chimpanz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 Box 10"/>
          <p:cNvSpPr/>
          <p:nvPr/>
        </p:nvSpPr>
        <p:spPr>
          <a:xfrm>
            <a:off x="6478560" y="190512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Goril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 Box 11"/>
          <p:cNvSpPr/>
          <p:nvPr/>
        </p:nvSpPr>
        <p:spPr>
          <a:xfrm>
            <a:off x="7545600" y="1905120"/>
            <a:ext cx="95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Orangut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266760" y="1294920"/>
            <a:ext cx="8610480" cy="27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lades are evolutionary branches that consist of a common ancestor and all the organisms that evolved from it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A phylogenic tree based on cladistic analysis is called a cladogram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266760" y="75960"/>
            <a:ext cx="8610480" cy="51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191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Times New Roman"/>
              </a:rPr>
              <a:t>15.13  Cladistic Analysis</a:t>
            </a: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  <p:pic>
        <p:nvPicPr>
          <p:cNvPr id="221" name="Picture 3" descr=""/>
          <p:cNvPicPr/>
          <p:nvPr/>
        </p:nvPicPr>
        <p:blipFill>
          <a:blip r:embed="rId1"/>
          <a:stretch/>
        </p:blipFill>
        <p:spPr>
          <a:xfrm>
            <a:off x="4038480" y="3581280"/>
            <a:ext cx="4267440" cy="28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News Gothic MT"/>
              </a:rPr>
              <a:t>Quick Review Key terms</a:t>
            </a: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600200"/>
            <a:ext cx="853416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News Gothic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News Gothic MT"/>
              </a:rPr>
              <a:t>Phylogeny</a:t>
            </a:r>
            <a:r>
              <a:rPr b="0" lang="en-US" sz="3000" spc="-1" strike="noStrike">
                <a:solidFill>
                  <a:srgbClr val="000000"/>
                </a:solidFill>
                <a:latin typeface="News Gothic MT"/>
              </a:rPr>
              <a:t> is the evolutionary history of a species or group of species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News Gothic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News Gothic MT"/>
              </a:rPr>
              <a:t>Systematics</a:t>
            </a:r>
            <a:r>
              <a:rPr b="0" lang="en-US" sz="3000" spc="-1" strike="noStrike">
                <a:solidFill>
                  <a:srgbClr val="000000"/>
                </a:solidFill>
                <a:latin typeface="News Gothic MT"/>
              </a:rPr>
              <a:t> is the analytical approach to understanding the diversity and relationships of organisms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News Gothic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News Gothic MT"/>
              </a:rPr>
              <a:t>Molecular Systematics</a:t>
            </a:r>
            <a:r>
              <a:rPr b="0" lang="en-US" sz="3000" spc="-1" strike="noStrike">
                <a:solidFill>
                  <a:srgbClr val="000000"/>
                </a:solidFill>
                <a:latin typeface="News Gothic MT"/>
              </a:rPr>
              <a:t> compares DNA and RNA of different organisms to determine evolutionary relationships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51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Georgia"/>
              </a:rPr>
              <a:t>Reproductive Barriers</a:t>
            </a: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228240" y="914040"/>
            <a:ext cx="850428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Georgia"/>
              </a:rPr>
              <a:t>Reproductive Barriers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 prevent members of different species from producing viable, fertile offspring. (there are 2 types)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Georgia"/>
              </a:rPr>
              <a:t>1. Prezygotic barriers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: impede mating or hinder fertilization if mating does occur (BEFORE zygote forms)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Georgia"/>
              </a:rPr>
              <a:t>2.Postzygotic barriers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: prevent a hybrid zygote from developing into a viable, fertile adult (AFTER zygote forms) (Ex: Mule)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304560"/>
            <a:ext cx="861048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Darwin observed: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304920" y="1447920"/>
            <a:ext cx="8610480" cy="20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1576"/>
              </a:spcBef>
              <a:spcAft>
                <a:spcPts val="700"/>
              </a:spcAft>
              <a:buClr>
                <a:srgbClr val="990000"/>
              </a:buClr>
              <a:buFont typeface="Georgi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similarities between living and fossil organis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576"/>
              </a:spcBef>
              <a:spcAft>
                <a:spcPts val="700"/>
              </a:spcAft>
              <a:buClr>
                <a:srgbClr val="990000"/>
              </a:buClr>
              <a:buFont typeface="Georgi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the diversity of life on the Galápagos Islands, such as finches (birds) and giant tortoi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7620120" y="6126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igure 13.1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5" descr="_x001c_13-01A-GalapagosTortoise.jpg                                   0000002A_x001a_BiologyConcepts4eCIPL_8-15     B9599A75:"/>
          <p:cNvPicPr/>
          <p:nvPr/>
        </p:nvPicPr>
        <p:blipFill>
          <a:blip r:embed="rId1"/>
          <a:stretch/>
        </p:blipFill>
        <p:spPr>
          <a:xfrm>
            <a:off x="4724280" y="3733920"/>
            <a:ext cx="3886200" cy="260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"/>
          <p:cNvPicPr/>
          <p:nvPr/>
        </p:nvPicPr>
        <p:blipFill>
          <a:blip r:embed="rId2"/>
          <a:stretch/>
        </p:blipFill>
        <p:spPr>
          <a:xfrm>
            <a:off x="609480" y="3429000"/>
            <a:ext cx="390060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51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Georgia"/>
              </a:rPr>
              <a:t>Prezygotic Barriers</a:t>
            </a: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240" y="914040"/>
            <a:ext cx="85042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14"/>
              </a:spcBef>
              <a:spcAft>
                <a:spcPts val="675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1. Habitat isolation: 2 species live in different habitats and don</a:t>
            </a:r>
            <a:r>
              <a:rPr b="0" lang="ja-JP" sz="2700" spc="-1" strike="noStrike">
                <a:solidFill>
                  <a:srgbClr val="000000"/>
                </a:solidFill>
                <a:latin typeface="Georgia"/>
              </a:rPr>
              <a:t>’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 see each oth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514"/>
              </a:spcBef>
              <a:spcAft>
                <a:spcPts val="675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. Temporal isolation: 2 species breed at different times of the day or yea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514"/>
              </a:spcBef>
              <a:spcAft>
                <a:spcPts val="675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3. Behavioral isolation: courtship rituals are species specific, and don</a:t>
            </a:r>
            <a:r>
              <a:rPr b="0" lang="ja-JP" sz="2700" spc="-1" strike="noStrike">
                <a:solidFill>
                  <a:srgbClr val="000000"/>
                </a:solidFill>
                <a:latin typeface="Georgia"/>
              </a:rPr>
              <a:t>’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 attract other speci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514"/>
              </a:spcBef>
              <a:spcAft>
                <a:spcPts val="675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4. Mechanical isolation: the sexual pieces don</a:t>
            </a:r>
            <a:r>
              <a:rPr b="0" lang="ja-JP" sz="2700" spc="-1" strike="noStrike">
                <a:solidFill>
                  <a:srgbClr val="000000"/>
                </a:solidFill>
                <a:latin typeface="Georgia"/>
              </a:rPr>
              <a:t>’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 fit togeth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514"/>
              </a:spcBef>
              <a:spcAft>
                <a:spcPts val="675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5. Gametic isolation: even if sex occurs, the egg and sperm can</a:t>
            </a:r>
            <a:r>
              <a:rPr b="0" lang="ja-JP" sz="2700" spc="-1" strike="noStrike">
                <a:solidFill>
                  <a:srgbClr val="000000"/>
                </a:solidFill>
                <a:latin typeface="Georgia"/>
              </a:rPr>
              <a:t>’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 mee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51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Georgia"/>
              </a:rPr>
              <a:t>Postzygotic barriers</a:t>
            </a: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1. Reduced hybrid viability: hybrid babies die before reaching reproductive age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2. Reduced hybrid fertility: hybrid babies are sterile and can</a:t>
            </a:r>
            <a:r>
              <a:rPr b="0" lang="ja-JP" sz="3000" spc="-1" strike="noStrike">
                <a:solidFill>
                  <a:srgbClr val="000000"/>
                </a:solidFill>
                <a:latin typeface="Georgia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 reproduce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3. Hybrid breakdown: first generation babies can breed, but their children are infertile (F2)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5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0000"/>
                </a:solidFill>
                <a:latin typeface="Georgia"/>
              </a:rPr>
              <a:t>How do new species form?</a:t>
            </a:r>
            <a:endParaRPr b="1" lang="en-US" sz="33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28240" y="838080"/>
            <a:ext cx="85042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Georgia"/>
              </a:rPr>
              <a:t>Allopatric speciation: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ja-JP" sz="30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other country,</a:t>
            </a:r>
            <a:r>
              <a:rPr b="0" lang="ja-JP" sz="3000" spc="-1" strike="noStrike">
                <a:solidFill>
                  <a:srgbClr val="000000"/>
                </a:solidFill>
                <a:latin typeface="Georgia"/>
              </a:rPr>
              <a:t>”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 a population is geographically divided into 2 isolated subpopulations, which eventually become 2 new species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Georgia"/>
              </a:rPr>
              <a:t>Sympatric speciation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lang="ja-JP" sz="30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ame country,</a:t>
            </a:r>
            <a:r>
              <a:rPr b="0" lang="ja-JP" sz="3000" spc="-1" strike="noStrike">
                <a:solidFill>
                  <a:srgbClr val="000000"/>
                </a:solidFill>
                <a:latin typeface="Georgia"/>
              </a:rPr>
              <a:t>”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 2 new species develop in the same area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1576"/>
              </a:spcBef>
              <a:spcAft>
                <a:spcPts val="700"/>
              </a:spcAft>
              <a:buClr>
                <a:srgbClr val="99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utations such as polyploidy (extra set of chromosomes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1576"/>
              </a:spcBef>
              <a:spcAft>
                <a:spcPts val="700"/>
              </a:spcAft>
              <a:buClr>
                <a:srgbClr val="99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abitat differentia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1576"/>
              </a:spcBef>
              <a:spcAft>
                <a:spcPts val="700"/>
              </a:spcAft>
              <a:buClr>
                <a:srgbClr val="99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xual selec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51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Georgia"/>
              </a:rPr>
              <a:t>Adaptive Radiation</a:t>
            </a: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Georgia"/>
              </a:rPr>
              <a:t>Adaptive radiation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: the evolution of many diversely adapted species from a common ancestor upon introduction to various new environmental opportunities and challenges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Example: Hawaiian plants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4" name="Picture 5" descr="http://www.biokurs.de/skripten/bilder/tanagra.jpg"/>
          <p:cNvPicPr/>
          <p:nvPr/>
        </p:nvPicPr>
        <p:blipFill>
          <a:blip r:embed="rId1"/>
          <a:stretch/>
        </p:blipFill>
        <p:spPr>
          <a:xfrm>
            <a:off x="5638680" y="3505320"/>
            <a:ext cx="333396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5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0000"/>
                </a:solidFill>
                <a:latin typeface="Georgia"/>
              </a:rPr>
              <a:t>Extras</a:t>
            </a:r>
            <a:endParaRPr b="1" lang="en-US" sz="33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228240" y="990360"/>
            <a:ext cx="850428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Georgia"/>
              </a:rPr>
              <a:t>Punctuated equilibrium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: lots of new species appear all at once in history (Cambrian explosion)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Georgia"/>
              </a:rPr>
              <a:t>Kin Selection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: refers to strategies in evolution that favor the reproductive success of an organism's relatives, even at a cost to their own survival. (Altruistic Behavior)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7" name="Picture 5" descr="http://upload.wikimedia.org/wikipedia/commons/thumb/4/4a/Todd_Huffman_-_Lattice_(by).jpg/290px-Todd_Huffman_-_Lattice_(by).jpg"/>
          <p:cNvPicPr/>
          <p:nvPr/>
        </p:nvPicPr>
        <p:blipFill>
          <a:blip r:embed="rId1"/>
          <a:stretch/>
        </p:blipFill>
        <p:spPr>
          <a:xfrm>
            <a:off x="5867280" y="4419720"/>
            <a:ext cx="276228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610480" cy="39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Darwin concluded that: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1576"/>
              </a:spcBef>
              <a:spcAft>
                <a:spcPts val="700"/>
              </a:spcAft>
              <a:buClr>
                <a:srgbClr val="99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Earth was old and constantly changing (4.6 billion years old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1576"/>
              </a:spcBef>
              <a:spcAft>
                <a:spcPts val="700"/>
              </a:spcAft>
              <a:buClr>
                <a:srgbClr val="99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iving things also change (evolve) over generation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1576"/>
              </a:spcBef>
              <a:spcAft>
                <a:spcPts val="700"/>
              </a:spcAft>
              <a:buClr>
                <a:srgbClr val="99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iving things are related to animals and plants that used to exist but are now extinct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51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Times New Roman"/>
              </a:rPr>
              <a:t>Evidence for Evolution</a:t>
            </a: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981080"/>
            <a:ext cx="8534160" cy="36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ossils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Biogeography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omparative Anatomy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omparative Embryology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Molecular Biology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51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Times New Roman"/>
              </a:rPr>
              <a:t>Natural Selection</a:t>
            </a: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39" name="Rectangle 1026"/>
          <p:cNvSpPr/>
          <p:nvPr/>
        </p:nvSpPr>
        <p:spPr>
          <a:xfrm>
            <a:off x="152280" y="2438280"/>
            <a:ext cx="8610840" cy="26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eorgia"/>
                <a:ea typeface="MS PGothic"/>
              </a:rPr>
              <a:t>Darwin concluded that individuals best suited for a particular environment are more likely to survive and reproduce than those less well adapt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MS PGothic"/>
              </a:rPr>
              <a:t>Aka: survival of the fittest (giraffe example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027"/>
          <p:cNvSpPr/>
          <p:nvPr/>
        </p:nvSpPr>
        <p:spPr>
          <a:xfrm>
            <a:off x="228600" y="914400"/>
            <a:ext cx="8610480" cy="48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Darwin saw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Georgia"/>
              </a:rPr>
              <a:t>natural selection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 as the basic mechanism of evolu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576"/>
              </a:spcBef>
              <a:spcAft>
                <a:spcPts val="700"/>
              </a:spcAft>
              <a:buClr>
                <a:srgbClr val="990000"/>
              </a:buClr>
              <a:buFont typeface="Georgi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As a result, the proportion of individuals with favorable characteristics incre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576"/>
              </a:spcBef>
              <a:spcAft>
                <a:spcPts val="700"/>
              </a:spcAft>
              <a:buClr>
                <a:srgbClr val="990000"/>
              </a:buClr>
              <a:buFont typeface="Georgi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  <a:ea typeface="ＭＳ Ｐゴシック"/>
              </a:rPr>
              <a:t>Population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 gradually change in response to the environ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576"/>
              </a:spcBef>
              <a:spcAft>
                <a:spcPts val="700"/>
              </a:spcAft>
              <a:buClr>
                <a:srgbClr val="990000"/>
              </a:buClr>
              <a:buFont typeface="Georgi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  <a:ea typeface="ＭＳ Ｐゴシック"/>
              </a:rPr>
              <a:t>Phenotype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 that are better reproduce more, eventually, better genotypes become more comm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5638680" cy="292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Darwin also saw that when humans choose organisms with specific characteristics as breeding stock, they are performing the role of the environmen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304920" y="3352680"/>
            <a:ext cx="4876560" cy="29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1576"/>
              </a:spcBef>
              <a:spcAft>
                <a:spcPts val="700"/>
              </a:spcAft>
              <a:buClr>
                <a:srgbClr val="990000"/>
              </a:buClr>
              <a:buFont typeface="Georgi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This is call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  <a:ea typeface="ＭＳ Ｐゴシック"/>
              </a:rPr>
              <a:t>artificial sel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576"/>
              </a:spcBef>
              <a:spcAft>
                <a:spcPts val="700"/>
              </a:spcAft>
              <a:buClr>
                <a:srgbClr val="990000"/>
              </a:buClr>
              <a:buFont typeface="Georgi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Example of artificial selection in plants: five vegetables derived from wild must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7696080" y="620244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igure 13.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5" descr="_x0017_13-04A1-WildMustard.jpg                                        0000002A_x001a_BiologyConcepts4eCIPL_8-15     B9599A75:"/>
          <p:cNvPicPr/>
          <p:nvPr/>
        </p:nvPicPr>
        <p:blipFill>
          <a:blip r:embed="rId1"/>
          <a:srcRect l="0" t="12107" r="0" b="0"/>
          <a:stretch/>
        </p:blipFill>
        <p:spPr>
          <a:xfrm>
            <a:off x="6259680" y="380880"/>
            <a:ext cx="2579400" cy="3300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_x001f_13-04A2-VegetablesFrMustard.jpg                                0000002A_x001a_BiologyConcepts4eCIPL_8-15     B9599A75:"/>
          <p:cNvPicPr/>
          <p:nvPr/>
        </p:nvPicPr>
        <p:blipFill>
          <a:blip r:embed="rId2"/>
          <a:stretch/>
        </p:blipFill>
        <p:spPr>
          <a:xfrm>
            <a:off x="5410080" y="3860640"/>
            <a:ext cx="3435480" cy="22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266760" y="1599840"/>
            <a:ext cx="8648640" cy="39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A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Georgia"/>
              </a:rPr>
              <a:t>gene pool 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is the total collection of genes in a population at any one time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Georgia"/>
              </a:rPr>
              <a:t>Microevolution 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is a change in the relative frequencies of alleles in a gene poo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New mutations are constantly being generated in a gene pool, by accident or as a response to environmental changes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266760" y="75960"/>
            <a:ext cx="8610480" cy="51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91584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Times New Roman"/>
              </a:rPr>
              <a:t>13.7  Microevolution</a:t>
            </a: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5T16:30:00Z</dcterms:created>
  <dc:creator>Allison Barron</dc:creator>
  <dc:description/>
  <dc:language>en-US</dc:language>
  <cp:lastModifiedBy>Allison Barron</cp:lastModifiedBy>
  <dcterms:modified xsi:type="dcterms:W3CDTF">2015-04-15T17:43:55Z</dcterms:modified>
  <cp:revision>4</cp:revision>
  <dc:subject/>
  <dc:title>AP Test Evolution/Classifcation Review</dc:title>
</cp:coreProperties>
</file>